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59C-7746-42B3-9F6F-698620BF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129-8FF7-4E88-8949-DAD7ADA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68D-EB2B-46EC-8A9E-0FA2264C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5A7-1C04-49A8-8FCE-CA9D4779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CFB-7457-4964-9EF9-D0252455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77A-9102-416C-910E-76B4F22E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EF9-9B65-4181-88A0-C0E01A7F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BD1-7584-4114-90F3-3914367A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5AD-F0C1-4EB0-B812-0B7F0ED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EEF-48E6-4201-B3E9-82D89612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16A-E367-44FE-8F57-7D7FB6A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81E-9E5B-461E-B7E4-0999F24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C15E-1509-4D67-B12D-CAB32FF5F7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1268280"/>
            <a:ext cx="67784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זה לא מדליק לשרוף    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279680"/>
            <a:ext cx="86868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לעיתים, כאשר השריפה מתפשטת היא שורפת ישובים</a:t>
            </a:r>
            <a:br>
              <a:rPr sz="4400"/>
            </a:b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ונגרם נזק כבד לרכו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6381360"/>
            <a:ext cx="173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Shay Levy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6321600"/>
            <a:ext cx="23144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y Lev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0" y="47628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הלהבות מגיעות לעשרות מטרי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ונדרשים כוחות כיבוי גדולים לכבות שריפה, שנגרמה, בעצם, מרשלנו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453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זמן התאוששו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של יער אורנים לאחר שריפ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הוא כ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שנה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4911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Shay Levy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והנזקים עצומי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616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0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התוצאות תמיד קשות:</a:t>
            </a:r>
            <a:br>
              <a:rPr sz="4000"/>
            </a:b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פגיעה בנו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88200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כולנו אוהבים לעשות "על האש" בטבע, בנוף הפסטורלי, בין העצים הירוקים, לאכול, לשתות, ליהנות ולהתנתק מחיי השגר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אבל !!!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פגיעה בחי ובצומ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404640"/>
            <a:ext cx="558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אז,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אל תגרמו ליער להיות שחור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הקפידו לכבות מדורות ומנגלים – גם אם לא אתם השארתם אותם דולקים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כי</a:t>
            </a:r>
            <a:br>
              <a:rPr sz="4000"/>
            </a:br>
            <a:r>
              <a:rPr b="0" lang="hi-IN" sz="4000" spc="-1" strike="noStrike">
                <a:solidFill>
                  <a:srgbClr val="ffff00"/>
                </a:solidFill>
                <a:latin typeface="Arial"/>
              </a:rPr>
              <a:t>הנזק הוא של כולנו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עזרו לשמור על היער והחורש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במקרה שריפה חייגו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למכבי הא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6078600"/>
            <a:ext cx="432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</a:rPr>
              <a:t>צילום ועריכה: שי לוי   כל הזכויות שמורו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photosha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אם משאירים גחלים או מדורה בשטח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התוצאות עלולות להיות הרסניות ויקרות מאוד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14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058760"/>
            <a:ext cx="9144000" cy="582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89000"/>
            <a:ext cx="7777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כל השריפות בארץ נגרמות על ידי אדם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רובן של השריפות נגרמות עקב רשלנות של  מטיילים ונופשים ... והנזקים עצומים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-360"/>
            <a:ext cx="565164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בימי שרב, בהם הטמפרטורות גבוהות, הלחות נמוכה והרוחות חזקות, הסיכוי להתפרצות שריפות גדול במיוחד. מגחל בודד שהושאר דולק בשטח- יכולים להישרף מאות דונמים של צמחיה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51400" y="0"/>
            <a:ext cx="46926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842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348240"/>
            <a:ext cx="28195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Shay Levy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9:08:06Z</dcterms:created>
  <dc:creator>Orly</dc:creator>
  <dc:description/>
  <dc:language>en-US</dc:language>
  <cp:lastModifiedBy>Orly</cp:lastModifiedBy>
  <dcterms:modified xsi:type="dcterms:W3CDTF">2007-04-16T18:29:58Z</dcterms:modified>
  <cp:revision>43</cp:revision>
  <dc:subject/>
  <dc:title>של"ח – שדה לאום חברה סדנת מפגש טבע בארץ ישראל</dc:title>
</cp:coreProperties>
</file>