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6B0-6F9C-4D88-8EE7-CE604F0B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D77-97C9-43A2-899C-6236F907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FDA-7E1B-44AE-A7EA-FFF676E6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2BF-126F-4C3F-9ACD-74D7A8C0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0D4-8A4F-48BF-92F9-77A8C4E3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4E4-CFCF-48C7-B0BE-E7DB5011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215-9978-44AA-A937-BCFFCAE9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E03-44AD-4BBA-A618-67662B14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F6A-1568-4725-AAD5-6E5789BA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653-57A6-4960-AD11-44AC5ACD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A12-720C-4E7B-B659-20D54E72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5CD-AC64-40AF-A8D4-6A08BDD2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A76C-F1F7-431B-9C23-20706D5BB4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1268280"/>
            <a:ext cx="67784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זה לא מדליק לשרוף    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79680"/>
            <a:ext cx="86868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לעיתים, כאשר השריפה מתפשטת היא שורפת ישובים</a:t>
            </a:r>
            <a:br>
              <a:rPr sz="4400"/>
            </a:b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ונגרם נזק כבד לרכו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6381360"/>
            <a:ext cx="173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Shay Levy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52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6321600"/>
            <a:ext cx="2314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y Lev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0" y="47628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הלהבות מגיעות לעשרות מטרי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ונדרשים כוחות כיבוי גדולים לכבות שריפה, שנגרמה, בעצם, מרשלנו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453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זמן התאוששו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של יער אורנים לאחר שריפ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הוא כ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שנה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4911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Shay Levy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והנזקים עצומי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616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842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התוצאות תמיד קשות:</a:t>
            </a:r>
            <a:br>
              <a:rPr sz="4000"/>
            </a:b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פגיעה בנו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88200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כולנו אוהבים לעשות "על האש" בטבע, בנוף הפסטורלי, בין העצים הירוקים, לאכול, לשתות, ליהנות ולהתנתק מחיי השגר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אבל !!!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פגיעה בחי ובצומ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404640"/>
            <a:ext cx="558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אז,</a:t>
            </a:r>
            <a:br>
              <a:rPr sz="4000"/>
            </a:b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אל תגרמו ליער להיות שחור</a:t>
            </a:r>
            <a:br>
              <a:rPr sz="4000"/>
            </a:b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הקפידו לכבות מדורות ומנגלים – גם אם לא אתם השארתם אותם דולקים</a:t>
            </a:r>
            <a:br>
              <a:rPr sz="4000"/>
            </a:b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כי</a:t>
            </a:r>
            <a:br>
              <a:rPr sz="4000"/>
            </a:b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הנזק הוא של כולנו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עזרו לשמור על היער והחורש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במקרה שריפה חייגו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למכבי הא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6078600"/>
            <a:ext cx="432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Arial"/>
              </a:rPr>
              <a:t>צילום ועריכה: שי לוי   כל הזכויות שמורו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photosha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אם משאירים גחלים או מדורה בשטח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התוצאות עלולות להיות הרסניות ויקרות מאוד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14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058760"/>
            <a:ext cx="9144000" cy="582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89000"/>
            <a:ext cx="7777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כל השריפות בארץ נגרמות על ידי אדם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רובן של השריפות נגרמות עקב רשלנות של  מטיילים ונופשים ... והנזקים עצומים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-360"/>
            <a:ext cx="565164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בימי שרב, בהם הטמפרטורות גבוהות, הלחות נמוכה והרוחות חזקות, הסיכוי להתפרצות שריפות גדול במיוחד. מגחל בודד שהושאר דולק בשטח- יכולים להישרף מאות דונמים של צמחי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51400" y="0"/>
            <a:ext cx="46926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842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348240"/>
            <a:ext cx="28195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Shay Levy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9:08:06Z</dcterms:created>
  <dc:creator>Orly</dc:creator>
  <dc:description/>
  <dc:language>en-US</dc:language>
  <cp:lastModifiedBy>Orly</cp:lastModifiedBy>
  <dcterms:modified xsi:type="dcterms:W3CDTF">2007-04-16T18:29:58Z</dcterms:modified>
  <cp:revision>43</cp:revision>
  <dc:subject/>
  <dc:title>של"ח – שדה לאום חברה סדנת מפגש טבע בארץ ישראל</dc:title>
</cp:coreProperties>
</file>